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6516-58D5-4A60-8512-C41D7E0435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3C8-A79D-4355-83A1-B74BB3E5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CE6-FA4D-4E7B-97E2-A72CBF5A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4C1-E0DD-4176-98E1-5261AEBF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E3F-FA06-478E-A5BF-C992F4D8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AB4-94E7-42E5-9EB1-DD4709BB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CF8-B422-471C-BA13-F874C1AB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09D-2682-4923-BAE2-669CB773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417-7ED5-4F0D-B2A7-7B15CED2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4D4-F3AD-466A-A60D-F33490DC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73F-F0F2-4B8C-8885-DEFDD422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A5F-EF6B-4B03-B581-DBC6CE88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653-D905-4DC7-A44F-898BCC81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F852-E412-4445-8D12-371140550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RomaK</cp:lastModifiedBy>
  <dcterms:modified xsi:type="dcterms:W3CDTF">2015-09-01T16:20:22Z</dcterms:modified>
  <cp:revision>12</cp:revision>
  <dc:subject/>
  <dc:title>Simple way to remember ions</dc:title>
</cp:coreProperties>
</file>